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BA79-6CF8-494E-81A5-5FD7FD67F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82D2-4F49-4E37-A15E-806D1E976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Touching R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B14-A0E5-44CD-ACA3-57473FF9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2C0-8EE9-455C-B2D1-1B6748BC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6F2-59B6-4E62-9781-07529215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A19-4CAD-4358-A10D-292F6EC5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916D-8C7A-408F-AC8C-443C5189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09D7-F01B-4ABB-9AE0-8B898A2E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5F77-529E-49B8-8919-E780AC50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4EA1-7712-46A2-88E1-F8AFAD68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EAA4-0564-4360-B04A-D93D2C97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54E2-202C-4CD3-BE96-8D1CF4E7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C9BB-E289-466C-BB0E-BD36C42E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01B-39EE-4E25-853C-040696CF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B62E-B1B1-437D-82C4-DB00BB18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4550-062A-46BC-B427-DB88FBF4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BC69-01F2-4F8D-9014-C9F00C72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156B-7E4F-4F69-B7C9-FCCE6D43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B319-AAA7-4DE4-9A36-B8C4C0C3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305-40AE-48C0-A24D-E3CC18DA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AF8-E9FD-4A14-9DE8-D4943AB1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476-C1FD-4B53-BB48-DD6CB680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C13-9392-42BE-8DD6-30F08BDA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7BC-E4E7-4F9B-ACFD-19D22B61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04A-B1C0-4959-ACF3-B6D5BCC3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E7E-547C-4FAA-B761-F1823C3A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C21A-AB10-4A97-97BC-938393D99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BB9F-35C0-4AE3-9571-77C5BFA4E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jumbokids.com/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408960" y="2743200"/>
            <a:ext cx="890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3ed"/>
                </a:solidFill>
                <a:latin typeface="Bauhaus Md BT"/>
              </a:rPr>
              <a:t>School Interviews of Children ……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000600" y="6019920"/>
            <a:ext cx="371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836b8"/>
                </a:solidFill>
                <a:latin typeface="Bauhaus Md BT"/>
              </a:rPr>
              <a:t>A Sad Story ….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7467480" y="6095880"/>
            <a:ext cx="1143000" cy="398880"/>
          </a:xfrm>
          <a:prstGeom prst="rect">
            <a:avLst/>
          </a:prstGeom>
          <a:solidFill>
            <a:srgbClr val="f2dcd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ilenc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1295280" y="5793120"/>
            <a:ext cx="6435720" cy="703800"/>
          </a:xfrm>
          <a:prstGeom prst="rect">
            <a:avLst/>
          </a:prstGeom>
          <a:solidFill>
            <a:srgbClr val="ffff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o one notices the hurt, crestfallen look on Pinky’s fac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ne more child sacrificed to educational malpractis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380880" y="1043640"/>
            <a:ext cx="8382240" cy="2284200"/>
          </a:xfrm>
          <a:prstGeom prst="rect">
            <a:avLst/>
          </a:prstGeom>
          <a:solidFill>
            <a:srgbClr val="e1f10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re You Unknowingly putting your young child through this stress?  Its time to stop a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stand  that stress in the formative years is extremely harmful to your child’s brain development, it  affects memory, retention and the ability of the brain to function a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ake new connec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tress like this also has an impact on the child’s personality, confidence, and self imag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hy would you want to put  your child through this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3585240"/>
            <a:ext cx="8229600" cy="1008360"/>
          </a:xfrm>
          <a:prstGeom prst="rect">
            <a:avLst/>
          </a:prstGeom>
          <a:solidFill>
            <a:srgbClr val="09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op it today and help other parents understand it to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ducation is the right of every child, don’t steal this from ki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801000" y="4955400"/>
            <a:ext cx="7569000" cy="825480"/>
          </a:xfrm>
          <a:prstGeom prst="rect">
            <a:avLst/>
          </a:prstGeom>
          <a:solidFill>
            <a:srgbClr val="ec8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ook for a school that respects your child and not one th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nly expects from your child!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243640" cy="510552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60093"/>
                </a:solidFill>
                <a:latin typeface="Calibri"/>
              </a:rPr>
              <a:t>Prepared by </a:t>
            </a:r>
            <a:br>
              <a:rPr sz="3500"/>
            </a:br>
            <a:r>
              <a:rPr b="1" lang="en-US" sz="4500" spc="-1" strike="noStrike">
                <a:solidFill>
                  <a:srgbClr val="7030a0"/>
                </a:solidFill>
                <a:latin typeface="Calibri"/>
              </a:rPr>
              <a:t>Podar Jumbo Kids</a:t>
            </a:r>
            <a:br>
              <a:rPr sz="4500"/>
            </a:br>
            <a:r>
              <a:rPr b="1" lang="en-US" sz="2900" spc="-1" strike="noStrike">
                <a:solidFill>
                  <a:srgbClr val="d60093"/>
                </a:solidFill>
                <a:latin typeface="Calibri"/>
              </a:rPr>
              <a:t>in the interest of </a:t>
            </a:r>
            <a:br>
              <a:rPr sz="2900"/>
            </a:br>
            <a:r>
              <a:rPr b="1" lang="en-US" sz="3500" spc="-1" strike="noStrike">
                <a:solidFill>
                  <a:srgbClr val="d60093"/>
                </a:solidFill>
                <a:latin typeface="Calibri"/>
              </a:rPr>
              <a:t>Child Protection </a:t>
            </a:r>
            <a:br>
              <a:rPr sz="3500"/>
            </a:br>
            <a:r>
              <a:rPr b="1" lang="en-US" sz="3500" spc="-1" strike="noStrike">
                <a:solidFill>
                  <a:srgbClr val="d60093"/>
                </a:solidFill>
                <a:latin typeface="Calibri"/>
              </a:rPr>
              <a:t>Rights of Children</a:t>
            </a:r>
            <a:br>
              <a:rPr sz="3500"/>
            </a:br>
            <a:br>
              <a:rPr sz="2900"/>
            </a:br>
            <a:r>
              <a:rPr b="1" lang="en-US" sz="2900" spc="-1" strike="noStrike">
                <a:solidFill>
                  <a:srgbClr val="d60093"/>
                </a:solidFill>
                <a:latin typeface="Calibri"/>
              </a:rPr>
              <a:t>For details or copies write to</a:t>
            </a:r>
            <a:br>
              <a:rPr sz="2900"/>
            </a:br>
            <a:r>
              <a:rPr b="1" lang="en-US" sz="2900" spc="-1" strike="noStrike">
                <a:solidFill>
                  <a:srgbClr val="d60093"/>
                </a:solidFill>
                <a:latin typeface="Calibri"/>
              </a:rPr>
              <a:t>Director – </a:t>
            </a:r>
            <a:r>
              <a:rPr b="1" lang="en-US" sz="2900" spc="-1" strike="noStrike">
                <a:solidFill>
                  <a:srgbClr val="7030a0"/>
                </a:solidFill>
                <a:latin typeface="Calibri"/>
              </a:rPr>
              <a:t>Ms. Swati Popat Vats</a:t>
            </a:r>
            <a:br>
              <a:rPr sz="2900"/>
            </a:br>
            <a:r>
              <a:rPr b="1" lang="en-US" sz="2300" spc="-1" strike="noStrike">
                <a:solidFill>
                  <a:srgbClr val="d60093"/>
                </a:solidFill>
                <a:latin typeface="Calibri"/>
              </a:rPr>
              <a:t>email : </a:t>
            </a:r>
            <a:r>
              <a:rPr b="1" lang="en-US" sz="2300" spc="-1" strike="noStrike">
                <a:solidFill>
                  <a:srgbClr val="c00000"/>
                </a:solidFill>
                <a:latin typeface="Calibri"/>
              </a:rPr>
              <a:t>swatipopat@podar.net</a:t>
            </a:r>
            <a:br>
              <a:rPr sz="2300"/>
            </a:br>
            <a:r>
              <a:rPr b="1" lang="en-US" sz="2300" spc="-1" strike="noStrike">
                <a:solidFill>
                  <a:srgbClr val="d60093"/>
                </a:solidFill>
                <a:latin typeface="Calibri"/>
              </a:rPr>
              <a:t>website : </a:t>
            </a:r>
            <a:r>
              <a:rPr b="0" lang="en-US" sz="2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jumbokids.com</a:t>
            </a:r>
            <a:br>
              <a:rPr sz="2300"/>
            </a:br>
            <a:br>
              <a:rPr sz="2300"/>
            </a:b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esign by :  </a:t>
            </a:r>
            <a:r>
              <a:rPr b="1" lang="en-US" sz="2600" spc="-1" strike="noStrike">
                <a:solidFill>
                  <a:srgbClr val="0836b8"/>
                </a:solidFill>
                <a:latin typeface="Calibri"/>
              </a:rPr>
              <a:t>Ms. Purvi Mendonca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JUMBO WAVING"/>
          <p:cNvPicPr/>
          <p:nvPr/>
        </p:nvPicPr>
        <p:blipFill>
          <a:blip r:embed="rId3"/>
          <a:stretch/>
        </p:blipFill>
        <p:spPr>
          <a:xfrm>
            <a:off x="457200" y="685800"/>
            <a:ext cx="1600200" cy="1946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PJK LOGO.tif"/>
          <p:cNvPicPr/>
          <p:nvPr/>
        </p:nvPicPr>
        <p:blipFill>
          <a:blip r:embed="rId4"/>
          <a:stretch/>
        </p:blipFill>
        <p:spPr>
          <a:xfrm>
            <a:off x="6705720" y="762120"/>
            <a:ext cx="184140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1066680" y="457200"/>
            <a:ext cx="6934320" cy="703800"/>
          </a:xfrm>
          <a:prstGeom prst="rect">
            <a:avLst/>
          </a:prstGeom>
          <a:solidFill>
            <a:srgbClr val="f2dcd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inky cries herself to sleep and because of the stress has bad dreams and bed we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7391520" y="6095880"/>
            <a:ext cx="1371600" cy="398880"/>
          </a:xfrm>
          <a:prstGeom prst="rect">
            <a:avLst/>
          </a:prstGeom>
          <a:solidFill>
            <a:srgbClr val="f2dcd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ext  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6705720" y="6095880"/>
            <a:ext cx="2057400" cy="398880"/>
          </a:xfrm>
          <a:prstGeom prst="rect">
            <a:avLst/>
          </a:prstGeom>
          <a:solidFill>
            <a:srgbClr val="f2dcd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rincipal’s  Off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1:03:57Z</dcterms:created>
  <dc:creator>podar</dc:creator>
  <dc:description/>
  <dc:language>en-US</dc:language>
  <cp:lastModifiedBy>Nitin</cp:lastModifiedBy>
  <dcterms:modified xsi:type="dcterms:W3CDTF">2011-03-15T11:26:25Z</dcterms:modified>
  <cp:revision>42</cp:revision>
  <dc:subject/>
  <dc:title>Slide 1</dc:title>
</cp:coreProperties>
</file>