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4CD-5448-45CE-A600-F6D6F669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D1C-4C7D-46E3-B456-C7D2597D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726-C81E-4235-82CB-2683BDD0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A52-CBC4-47A1-819B-B29D6C05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3CF-0702-4493-B027-AEF612B3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8B7-B4DF-4971-832B-9766F5AC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F07-3AA3-404C-BF7F-295CBE6C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4E5-A93E-4FCC-94E7-1D1E343A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92B-7C33-4652-AE4B-B769CB1D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74D-9720-4BD8-A9A6-EDD503FE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F4D-2F1B-4B80-96B5-6244ADE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1CD-7A92-4FEF-A0C8-5F07092B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EF05-74FD-4E91-9747-A8372A404C9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jpg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jpg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21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22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23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jpg"/>
          <p:cNvPicPr/>
          <p:nvPr/>
        </p:nvPicPr>
        <p:blipFill>
          <a:blip r:embed="rId1"/>
          <a:stretch/>
        </p:blipFill>
        <p:spPr>
          <a:xfrm>
            <a:off x="25560" y="0"/>
            <a:ext cx="90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jpg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7:28:24Z</dcterms:created>
  <dc:creator>Nitin</dc:creator>
  <dc:description/>
  <dc:language>en-US</dc:language>
  <cp:lastModifiedBy>Nitin</cp:lastModifiedBy>
  <dcterms:modified xsi:type="dcterms:W3CDTF">2011-01-24T07:32:00Z</dcterms:modified>
  <cp:revision>1</cp:revision>
  <dc:subject/>
  <dc:title>Slide 1</dc:title>
</cp:coreProperties>
</file>