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84AB-982B-48B2-9C1B-78E84923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823-DAF7-4EEC-8E80-75C6A142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868B-D1D0-4CB8-881F-9D51EDF5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1C34-CDD6-46A8-9F64-7458A58A0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B962-0578-4E68-9A02-F7548526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7B9-573E-447D-8505-F66F0775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7D5-D828-4C3E-808D-17912691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4371-E325-49FF-A6FB-E5F9E664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F815-52DD-44B1-BEDC-EBF0E353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324-162A-43D7-875B-EAFE4EC4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6ADF-B2BF-453F-8D20-FE1C9FD2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3A9-B84D-4043-A33E-D3A866CC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8944-92E9-4CCA-A2F1-77750177B35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10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11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12.jpg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13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14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15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16.jpg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17.jpg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19.jpg"/>
          <p:cNvPicPr/>
          <p:nvPr/>
        </p:nvPicPr>
        <p:blipFill>
          <a:blip r:embed="rId1"/>
          <a:stretch/>
        </p:blipFill>
        <p:spPr>
          <a:xfrm>
            <a:off x="6480" y="0"/>
            <a:ext cx="91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20.jpg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3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21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22.jpg"/>
          <p:cNvPicPr/>
          <p:nvPr/>
        </p:nvPicPr>
        <p:blipFill>
          <a:blip r:embed="rId1"/>
          <a:stretch/>
        </p:blipFill>
        <p:spPr>
          <a:xfrm>
            <a:off x="17640" y="0"/>
            <a:ext cx="91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jpg"/>
          <p:cNvPicPr/>
          <p:nvPr/>
        </p:nvPicPr>
        <p:blipFill>
          <a:blip r:embed="rId1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jpg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7.jpg"/>
          <p:cNvPicPr/>
          <p:nvPr/>
        </p:nvPicPr>
        <p:blipFill>
          <a:blip r:embed="rId1"/>
          <a:stretch/>
        </p:blipFill>
        <p:spPr>
          <a:xfrm>
            <a:off x="12600" y="0"/>
            <a:ext cx="911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8.jpg"/>
          <p:cNvPicPr/>
          <p:nvPr/>
        </p:nvPicPr>
        <p:blipFill>
          <a:blip r:embed="rId1"/>
          <a:stretch/>
        </p:blipFill>
        <p:spPr>
          <a:xfrm>
            <a:off x="9360" y="0"/>
            <a:ext cx="912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06:49:19Z</dcterms:created>
  <dc:creator>Nitin</dc:creator>
  <dc:description/>
  <dc:language>en-US</dc:language>
  <cp:lastModifiedBy>Nitin</cp:lastModifiedBy>
  <dcterms:modified xsi:type="dcterms:W3CDTF">2011-01-24T07:12:58Z</dcterms:modified>
  <cp:revision>3</cp:revision>
  <dc:subject/>
  <dc:title>Slide 1</dc:title>
</cp:coreProperties>
</file>