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B16-6636-4963-BC43-686660D2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F50-01BC-47ED-8052-D527EA06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57B-CE7D-4F72-9466-3168707D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410-B956-4F67-B86A-69F1D299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1F5-5066-4175-8D84-E285E6F8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887-8ECC-430F-8FC0-8642E0EC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517-1BB3-4523-B79F-D06B767E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CA9-D17B-4B19-9A59-E0D5F632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D3C-5A6D-4118-80D5-0AB1D62E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EFF-B6CF-49DC-AF89-1B25185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E0B-215C-48CB-91C9-F691FADC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F99-3EAF-48E0-9243-6E1FD7D5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6E63-44E2-4C31-A305-FE4F8DDF8BD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1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1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1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1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1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1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1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1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2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2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2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2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9:33:27Z</dcterms:created>
  <dc:creator>admin</dc:creator>
  <dc:description/>
  <dc:language>en-US</dc:language>
  <cp:lastModifiedBy>admin</cp:lastModifiedBy>
  <dcterms:modified xsi:type="dcterms:W3CDTF">2010-12-08T09:41:21Z</dcterms:modified>
  <cp:revision>2</cp:revision>
  <dc:subject/>
  <dc:title>Slide 1</dc:title>
</cp:coreProperties>
</file>